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021-8BA7-437B-B0B5-BE48F26C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26B-2ED2-41A5-BE54-4A33562E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C20-17A0-4B9C-83D4-E948F818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664-326A-4BC9-8CA4-E86F8B29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FC7-8606-4CCF-AD8F-54780EB0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7EA-872F-42B8-A0FE-0B27AEBE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BE6-663A-4C0A-B61A-8316AE9E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0A6-B48D-491A-B56E-E9F32E3F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248-34BE-4384-8C94-EBEF15D9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EC7-FE89-4636-A7D9-A29CB1A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959-D8C0-4E63-9B57-971BE2AA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599-4EF2-4587-AEE0-6D01B8A9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A226-98E9-4906-A071-A9535CA5AE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Great Depres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graphs of the Great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9600"/>
            <a:ext cx="85345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9343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1000"/>
            <a:ext cx="876312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7080"/>
            <a:ext cx="830592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20520"/>
            <a:ext cx="82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8991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Great Depression: White migrant mother with Children. Weslaco Texas. Photo by Russell Lee. Courtesy Library of Congress, Prints &amp; Photographs Division, FSA-OWI Collection LC-USF34- 032086-D"/>
          <p:cNvPicPr/>
          <p:nvPr/>
        </p:nvPicPr>
        <p:blipFill>
          <a:blip r:embed="rId1"/>
          <a:stretch/>
        </p:blipFill>
        <p:spPr>
          <a:xfrm>
            <a:off x="152280" y="168120"/>
            <a:ext cx="899172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55600"/>
            <a:ext cx="861048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Great Depression: Boy hopping fright train, Dubuque, Iowa. Photo by John Vachon. Courtesy Library of Congress, Prints &amp; Photographs Division, FSA-OWI Collection LC-USF33- 001772-M5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Great Depression: 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a letter to President Hoov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man or woman that is feeling the hard times of the Great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letter to President Herbert Hoover explaining how the economic situation has affected your life and your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2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52360" y="695160"/>
            <a:ext cx="6839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899172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68400"/>
            <a:ext cx="86868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1624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3840"/>
            <a:ext cx="77724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4:44:38Z</dcterms:created>
  <dc:creator>Blair Lemons</dc:creator>
  <dc:description/>
  <dc:language>en-US</dc:language>
  <cp:lastModifiedBy>Blair Lemons</cp:lastModifiedBy>
  <dcterms:modified xsi:type="dcterms:W3CDTF">2009-03-16T19:00:09Z</dcterms:modified>
  <cp:revision>4</cp:revision>
  <dc:subject/>
  <dc:title>The Great Depression</dc:title>
</cp:coreProperties>
</file>